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99F-EB1C-4E22-9D01-0E3E26AC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47C3-315F-42FB-8F85-B2685590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5C83-DA90-4650-9EA8-325FD948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52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968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500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52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968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E68-9217-445E-95CE-28CBA7E2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8E6B-4CC1-4A69-86B3-700A5ADA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AE16-231C-410B-B6E0-E42C65D9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82F5-DEEA-4B79-B900-B46C0900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C612-EFD7-41B2-9A83-C89B1D7F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5AD5-4317-45EF-BE8E-6CE1A553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166680"/>
            <a:ext cx="77706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C5D3-182E-4478-A924-73E52E9E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1980-EEA1-4BC4-A568-809B7438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CB0D-F913-439A-AD27-332D2D7D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F318-D00A-4172-931A-3B40C4DB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D52C-C8FB-415D-BF27-2E410AB8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3B4D-35B0-445C-B6D5-A289FC17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9A1E-9C02-4DF3-8E21-8490F1B8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52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968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500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52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968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18F0-02D6-4B00-87B5-8FF377C2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BF6-8746-445A-8F5D-DAFC5E42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B39-B545-46A6-AFD4-1949DF0C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823-0ABB-495E-B0AA-F850D00E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166680"/>
            <a:ext cx="77706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F3D-CDDD-4CF6-96CA-2E86DDB9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C3F-89D7-415A-BBC9-39AE8095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603-8088-4C01-AE01-008DFBF5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A40-C32C-44F5-99E8-9EC79A56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26120" indent="-278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1722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1722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595448-B1D4-4ABD-8629-A5E49B3A961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144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8872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06017-B66C-49F0-917B-2E9188BCF04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0" y="198360"/>
            <a:ext cx="6858000" cy="27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e GMOD Project: Creating Reusable Software Components for Genome Data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cott Ca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GMOD Project Coordinato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Cold Spring Harbor Laboratory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hado – GMOD Schema</a:t>
            </a:r>
            <a:br>
              <a:rPr sz="4400"/>
            </a:b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avid Emmert, Chris Mungall</a:t>
            </a:r>
            <a:endParaRPr b="0" lang="en-US" sz="32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360" y="1728720"/>
            <a:ext cx="8963280" cy="3400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7080" y="6526080"/>
            <a:ext cx="22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Comic Sans MS"/>
              </a:rPr>
              <a:t>Slide from Stan Letovsk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nofuncs.diagram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27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hado Schema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1526400" y="5638680"/>
            <a:ext cx="53989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ram created by SQL::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What do you need for Chado?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26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ostgreSQL (Powerful OS RDM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ioPer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o-perl (Gene Ontology consortium’s perl tool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ptional: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9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XORT, a perl tool for loading and dumping XML files to/from a databas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9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odWare, a BioPerl-compatible API built on Class::DBI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Do you need Chado?</a:t>
            </a:r>
            <a:br>
              <a:rPr sz="4400"/>
            </a:b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  It depends…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t is the medium of interoperation for many GMOD application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hado is very good at capturing complex biological data, but…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t is a data warehouse, and so can be a little slow to query, so…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f you have only features on sequences, you probably want something else (but I’ve got that too)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8978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omic Sans MS"/>
              </a:rPr>
              <a:t>Standard Browsers &amp; Editors</a:t>
            </a:r>
            <a:endParaRPr b="0" lang="en-US" sz="40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GBrowse – Web-based genome annotation viewing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Lincoln Stein, Scott Cain, CSHL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Apollo – Desktop-based genome annotation editing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Nomi Harris, Berkeley; Michelle Clamp, Broad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CMap – Web-based comparative map viewing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Ken Clark, Ben Faga, CSHL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GMODWeb – “Skin-able” Chado-based web site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Allen Day, Brian O’Connor, UCLA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Textpresso – An ontology driven literature search tool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Hans-Michael Mueller, CalTech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GBrowse—the Generic Genome Browser (L. Stein, S. Cain)</a:t>
            </a:r>
            <a:endParaRPr b="0" lang="en-US" sz="40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609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ross platform, CGI-based sequence feature browser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upports multiple database backends (flat files; Bio::DB::GFF,SeqFeature; Chado; BioSQL)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Highly configurable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User annotations and feature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lugin architecture for importers, dumpers and drawer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Lots of glyphs to choose from…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59" name="gbrowse-image-glyph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96040" cy="2590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195640" y="4267080"/>
            <a:ext cx="398160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r create your ow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706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 moving to web 2.0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62" name="GBrowse-watson-popup-balloon-cropped" descr=""/>
          <p:cNvPicPr/>
          <p:nvPr/>
        </p:nvPicPr>
        <p:blipFill>
          <a:blip r:embed="rId1"/>
          <a:stretch/>
        </p:blipFill>
        <p:spPr>
          <a:xfrm>
            <a:off x="0" y="1238400"/>
            <a:ext cx="7496280" cy="5619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753080" y="5181480"/>
            <a:ext cx="43945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jimwatsonsequence.cshl.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A synteny browser in GBrows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65" name="synview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7105680" cy="3162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354320" y="5327640"/>
            <a:ext cx="6002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www.plasmodb.org, now distributed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Browse in the ‘contrib’ direct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What do you need for GBrowse?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pach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bg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ioPer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ome place to put your dat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ata: GFF2 or GFF3, or GenBank records, or something loaded in to Chado or BioSQL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Model Organism Database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575480" cy="397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Community-driven compilations of knowledge about one or more model organism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Genotype/phenotype correlations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volutionary relationship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hared resourc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Genome annotation, stock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Other key dataset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Installing GBrowse is easy (no, really!)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Apach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perl (only if on Window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libgd (only if on a Unix-like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gbrowse-netinstall.pl from www.gmod.org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Run (sudo) perl gbrowse-netinstall.p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e http://www.gmod.org/GBrows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etting started with GBrowse is not too hard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ample data installed so browsing can start right away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 tutorial is included to cover many aspects of track configuration, including writing perl callbacks to do very sophisticated stuff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 very active user mailing list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Apollo (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Nomi Harris, Michelle Clamp, Mark Gibson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wnloadable Java application for editing genome annotation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orks with GAME-XML, Chado, Chado-xml, GFF, GenBank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ttp://www.fruitfly.org/annot/apollo for a double-click installer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Apollo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76" name="apollo-screenshot" descr=""/>
          <p:cNvPicPr/>
          <p:nvPr/>
        </p:nvPicPr>
        <p:blipFill>
          <a:blip r:embed="rId1"/>
          <a:stretch/>
        </p:blipFill>
        <p:spPr>
          <a:xfrm>
            <a:off x="0" y="8096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Map (Ken Clark, Ben Faga)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omparative map viewer for physical, genetic and sequence map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b bas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eveloping an application to use as an assembly editor (CMAE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Requires Apache, an RDMS, and many perl modules (Bundle::CMap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832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Map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80" name="cmap-screenshot" descr="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GMODWeb—A mod-perl, template driven window into Chado (Allen Day, Brian O’Connor)</a:t>
            </a:r>
            <a:endParaRPr b="0" lang="en-US" sz="40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3124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uilt on Turnkey (an autogenerated MVC website for any “reasonable” DB)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ses SQL::Translator to create a perl Class::DBI API for a database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reates user-customizable templates for tables in the database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GMODWeb: Basic Ski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782" t="14582" r="8593" b="9375"/>
          <a:stretch/>
        </p:blipFill>
        <p:spPr>
          <a:xfrm>
            <a:off x="380880" y="1554120"/>
            <a:ext cx="8305920" cy="5227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749640" y="655308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Brian O’Conn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49640" y="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Brian O’Conn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GMODWeb: EnsEMBL Ski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782" t="14582" r="2344" b="7293"/>
          <a:stretch/>
        </p:blipFill>
        <p:spPr>
          <a:xfrm>
            <a:off x="304920" y="1523880"/>
            <a:ext cx="8610480" cy="5207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749640" y="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Brian O’Conn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ParameciumDB—a ‘Pure’ GMOD DB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91" name="parameciumdb-screenshot" descr=""/>
          <p:cNvPicPr/>
          <p:nvPr/>
        </p:nvPicPr>
        <p:blipFill>
          <a:blip r:embed="rId1"/>
          <a:stretch/>
        </p:blipFill>
        <p:spPr>
          <a:xfrm>
            <a:off x="628560" y="819000"/>
            <a:ext cx="851544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04920" y="228600"/>
            <a:ext cx="8686800" cy="6451560"/>
            <a:chOff x="304920" y="228600"/>
            <a:chExt cx="8686800" cy="64515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rcRect l="1354" t="18045" r="3154" b="2064"/>
            <a:stretch/>
          </p:blipFill>
          <p:spPr>
            <a:xfrm>
              <a:off x="457200" y="228600"/>
              <a:ext cx="3809880" cy="2695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rcRect l="1354" t="18045" r="3154" b="2064"/>
            <a:stretch/>
          </p:blipFill>
          <p:spPr>
            <a:xfrm>
              <a:off x="1752480" y="1600200"/>
              <a:ext cx="3276720" cy="2317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2" name="" descr=""/>
            <p:cNvPicPr/>
            <p:nvPr/>
          </p:nvPicPr>
          <p:blipFill>
            <a:blip r:embed="rId3"/>
            <a:srcRect l="1354" t="18045" r="3154" b="2064"/>
            <a:stretch/>
          </p:blipFill>
          <p:spPr>
            <a:xfrm>
              <a:off x="4876920" y="685800"/>
              <a:ext cx="3657600" cy="2587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rcRect l="8560" t="18045" r="7658" b="2064"/>
            <a:stretch/>
          </p:blipFill>
          <p:spPr>
            <a:xfrm>
              <a:off x="304920" y="3809880"/>
              <a:ext cx="3429000" cy="276552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4" name="" descr=""/>
            <p:cNvPicPr/>
            <p:nvPr/>
          </p:nvPicPr>
          <p:blipFill>
            <a:blip r:embed="rId5"/>
            <a:srcRect l="1354" t="18045" r="3154" b="2064"/>
            <a:stretch/>
          </p:blipFill>
          <p:spPr>
            <a:xfrm>
              <a:off x="5257800" y="4038480"/>
              <a:ext cx="3733920" cy="2641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5" name="" descr=""/>
            <p:cNvPicPr/>
            <p:nvPr/>
          </p:nvPicPr>
          <p:blipFill>
            <a:blip r:embed="rId6"/>
            <a:srcRect l="1354" t="16978" r="3154" b="5260"/>
            <a:stretch/>
          </p:blipFill>
          <p:spPr>
            <a:xfrm>
              <a:off x="2438280" y="3352680"/>
              <a:ext cx="3962520" cy="272916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arameciumdb-genepage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44960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ParameciumDB Gene Pag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7060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extpresso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35000" y="1066320"/>
            <a:ext cx="7726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acilitates full text searches of research papers (search scope from single sentence to full document)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acilitates keyword and category searches (adds meaning)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ntolog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has set of 50 categories containing 1.1 million term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onsists of scientific part (such as GO) as well as “colloquial” on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C. elegans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corpus has 7,800 papers, 22,000 abstracts, updated weekl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6234480" y="0"/>
            <a:ext cx="2898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Hans-Michael Muel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ext markup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162560" cy="2857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219800" cy="1924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62120" y="4495680"/>
            <a:ext cx="7315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rk up the whole corpus of papers with terms of categories and index mark-ups for search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34480" y="0"/>
            <a:ext cx="2898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Hans-Michael Muel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77060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extpresso searching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33520" y="990720"/>
            <a:ext cx="8206920" cy="4846680"/>
            <a:chOff x="533520" y="990720"/>
            <a:chExt cx="8206920" cy="484668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533520" y="990720"/>
              <a:ext cx="5943600" cy="484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"/>
            <p:cNvGrpSpPr/>
            <p:nvPr/>
          </p:nvGrpSpPr>
          <p:grpSpPr>
            <a:xfrm>
              <a:off x="1904760" y="4876920"/>
              <a:ext cx="4021200" cy="398880"/>
              <a:chOff x="1904760" y="4876920"/>
              <a:chExt cx="4021200" cy="39888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1904760" y="5094360"/>
                <a:ext cx="762120" cy="152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00800" y="4876920"/>
                <a:ext cx="3125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Case sensitive search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3276720" y="3505320"/>
              <a:ext cx="541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(will including bracketing in near futur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067040" y="3048120"/>
              <a:ext cx="7673400" cy="685800"/>
              <a:chOff x="1067040" y="3048120"/>
              <a:chExt cx="7673400" cy="68580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3048120"/>
                <a:ext cx="546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Boolean operations for keyword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1067040" y="3276720"/>
                <a:ext cx="38088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447560" y="3276720"/>
                <a:ext cx="38052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133720" y="3276720"/>
                <a:ext cx="7560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47920" y="3276720"/>
                <a:ext cx="17521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10040" y="3809520"/>
              <a:ext cx="5844600" cy="399240"/>
              <a:chOff x="2210040" y="3809520"/>
              <a:chExt cx="5844600" cy="399240"/>
            </a:xfrm>
          </p:grpSpPr>
          <p:sp>
            <p:nvSpPr>
              <p:cNvPr id="216" name=""/>
              <p:cNvSpPr/>
              <p:nvPr/>
            </p:nvSpPr>
            <p:spPr>
              <a:xfrm flipV="1">
                <a:off x="2210040" y="3809520"/>
                <a:ext cx="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2210040" y="3809520"/>
                <a:ext cx="5844600" cy="399240"/>
                <a:chOff x="2210040" y="3809520"/>
                <a:chExt cx="5844600" cy="399240"/>
              </a:xfrm>
            </p:grpSpPr>
            <p:sp>
              <p:nvSpPr>
                <p:cNvPr id="218" name=""/>
                <p:cNvSpPr/>
                <p:nvPr/>
              </p:nvSpPr>
              <p:spPr>
                <a:xfrm flipV="1">
                  <a:off x="3048120" y="380952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6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210040" y="4114800"/>
                  <a:ext cx="32000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16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486400" y="3809880"/>
                  <a:ext cx="2568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Arial"/>
                    </a:rPr>
                    <a:t>Phrase search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1" name=""/>
          <p:cNvSpPr/>
          <p:nvPr/>
        </p:nvSpPr>
        <p:spPr>
          <a:xfrm>
            <a:off x="0" y="5494320"/>
            <a:ext cx="739152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ts you query lik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I want to learn about all genes that interact with gene x in cell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34480" y="0"/>
            <a:ext cx="2898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Hans-Michael Muel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etting started with Textpresso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ux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pach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ots of disk space (~3GB/1000 full text paper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ull text papers in pdf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ttp://www.textpresso.org/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Other Componen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36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athway Tools – metabolic pathway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BioMart – data min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Ergatis – genome analysis workflow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ubSearch/PubFetch – literature management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Lucegene – keyword search of genome annotation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Sybil – synteny viewer for Chado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Packaging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01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RPM-based installs: </a:t>
            </a:r>
            <a:r>
              <a:rPr b="0" i="1" lang="en-GB" sz="3200" spc="-1" strike="noStrike">
                <a:solidFill>
                  <a:srgbClr val="0000ff"/>
                </a:solidFill>
                <a:latin typeface="Comic Sans MS"/>
              </a:rPr>
              <a:t>biopackages.net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(Fedora and CentO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Virtual machines with software (new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ource-based “make install”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xamples &amp; tutorial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Help desk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Mailing list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angible Benefi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A community-supported platform on which to build genome-scale database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New generation of semantically interoperable MODs (DAS2)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arameciumDB, BeetleBase, BeeBase, VectorBase, BovineBase, GallusDB, AphidBase, Xanthusbase,ToxoDB, GiardiaDB, LIS, KISS, T1Db, T2Db, CNV Browser, SwissRegulon..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More Informatio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57200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Credits: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incoln Stein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Ken Clark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Allen Da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Karen Eilbeck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avid Emmert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en Faga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inda Sperling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Olivier Arnaiz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3076560"/>
            <a:ext cx="3392280" cy="36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Nomi Har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Mark Gib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ima Mish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Chris Mung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rian O’Conn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ric J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on Gilb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Peter Kar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0880" y="1143000"/>
            <a:ext cx="791352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ww.gmod.org for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ownloads, documentation, mailing 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91800" y="6348240"/>
            <a:ext cx="26953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…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and many m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ree Views of a Gen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640800" y="14940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orm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3530" t="15719" r="13295" b="43951"/>
          <a:stretch/>
        </p:blipFill>
        <p:spPr>
          <a:xfrm>
            <a:off x="838080" y="2057400"/>
            <a:ext cx="6248520" cy="1069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23226" t="34597" r="1932" b="39459"/>
          <a:stretch/>
        </p:blipFill>
        <p:spPr>
          <a:xfrm>
            <a:off x="838080" y="3505320"/>
            <a:ext cx="441972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61840" y="32004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62120" y="5362560"/>
            <a:ext cx="4762440" cy="428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84080" y="49816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G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e GMOD Projec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12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tandardized solutions for model organism databas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Multiple MODs involv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Original participants: Worm, fly, yeast, mouse, arabidopsis, rat, rice, E. coli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Funded by NIH, USDA/ARS, NF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rogrammers, coordinator, help desk, workshop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875960" y="5729400"/>
            <a:ext cx="64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Bradley Hand ITC"/>
              </a:rPr>
              <a:t>http://www.gmod.or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5881680"/>
            <a:ext cx="1524240" cy="536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7606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e Components of GMOD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280" y="4952880"/>
            <a:ext cx="3503880" cy="1617840"/>
            <a:chOff x="152280" y="4952880"/>
            <a:chExt cx="3503880" cy="1617840"/>
          </a:xfrm>
        </p:grpSpPr>
        <p:sp>
          <p:nvSpPr>
            <p:cNvPr id="109" name=""/>
            <p:cNvSpPr/>
            <p:nvPr/>
          </p:nvSpPr>
          <p:spPr>
            <a:xfrm>
              <a:off x="152280" y="5181120"/>
              <a:ext cx="160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eb s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1"/>
            <a:srcRect l="721" t="11581" r="4426" b="3897"/>
            <a:stretch/>
          </p:blipFill>
          <p:spPr>
            <a:xfrm>
              <a:off x="1904400" y="4952880"/>
              <a:ext cx="1751760" cy="161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77400" y="3352680"/>
            <a:ext cx="3197160" cy="1274760"/>
            <a:chOff x="77400" y="3352680"/>
            <a:chExt cx="3197160" cy="1274760"/>
          </a:xfrm>
        </p:grpSpPr>
        <p:sp>
          <p:nvSpPr>
            <p:cNvPr id="112" name=""/>
            <p:cNvSpPr/>
            <p:nvPr/>
          </p:nvSpPr>
          <p:spPr>
            <a:xfrm>
              <a:off x="77400" y="3384360"/>
              <a:ext cx="182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ile forma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4560" y="3352680"/>
              <a:ext cx="990000" cy="12747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786920" y="4222800"/>
            <a:ext cx="4204800" cy="1191240"/>
            <a:chOff x="4786920" y="4222800"/>
            <a:chExt cx="4204800" cy="1191240"/>
          </a:xfrm>
        </p:grpSpPr>
        <p:sp>
          <p:nvSpPr>
            <p:cNvPr id="115" name=""/>
            <p:cNvSpPr/>
            <p:nvPr/>
          </p:nvSpPr>
          <p:spPr>
            <a:xfrm>
              <a:off x="4786920" y="4222800"/>
              <a:ext cx="1811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owsers &amp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dito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rcRect l="905" t="28856" r="29572" b="13655"/>
            <a:stretch/>
          </p:blipFill>
          <p:spPr>
            <a:xfrm>
              <a:off x="7010280" y="4222800"/>
              <a:ext cx="1981440" cy="11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87840" y="1828800"/>
            <a:ext cx="4548960" cy="1162080"/>
            <a:chOff x="87840" y="1828800"/>
            <a:chExt cx="4548960" cy="1162080"/>
          </a:xfrm>
        </p:grpSpPr>
        <p:sp>
          <p:nvSpPr>
            <p:cNvPr id="118" name=""/>
            <p:cNvSpPr/>
            <p:nvPr/>
          </p:nvSpPr>
          <p:spPr>
            <a:xfrm>
              <a:off x="87840" y="2057040"/>
              <a:ext cx="169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ontolog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3"/>
            <a:srcRect l="0" t="0" r="33729" b="0"/>
            <a:stretch/>
          </p:blipFill>
          <p:spPr>
            <a:xfrm>
              <a:off x="2361600" y="1828800"/>
              <a:ext cx="2275200" cy="116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4812840" y="2470320"/>
            <a:ext cx="4178880" cy="1333440"/>
            <a:chOff x="4812840" y="2470320"/>
            <a:chExt cx="4178880" cy="1333440"/>
          </a:xfrm>
        </p:grpSpPr>
        <p:pic>
          <p:nvPicPr>
            <p:cNvPr id="121" name="sequence.diagram" descr=""/>
            <p:cNvPicPr/>
            <p:nvPr/>
          </p:nvPicPr>
          <p:blipFill>
            <a:blip r:embed="rId4"/>
            <a:stretch/>
          </p:blipFill>
          <p:spPr>
            <a:xfrm>
              <a:off x="6451560" y="2470320"/>
              <a:ext cx="254016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812840" y="2698560"/>
              <a:ext cx="148968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6120"/>
            <a:ext cx="7772400" cy="106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omic Sans MS"/>
              </a:rPr>
              <a:t>Sequence Ontology</a:t>
            </a:r>
            <a:br>
              <a:rPr sz="4000"/>
            </a:br>
            <a:r>
              <a:rPr b="0" lang="en-GB" sz="2400" spc="-1" strike="noStrike">
                <a:solidFill>
                  <a:srgbClr val="808080"/>
                </a:solidFill>
                <a:latin typeface="Comic Sans MS"/>
              </a:rPr>
              <a:t>Karen Eilbeck (U. Utah)</a:t>
            </a:r>
            <a:endParaRPr b="0" lang="en-US" sz="2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638360"/>
            <a:ext cx="853416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-31680" y="652608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Comic Sans MS"/>
              </a:rPr>
              <a:t>Slide from Karen Eilbe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532440"/>
            <a:ext cx="7772400" cy="106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omic Sans MS"/>
              </a:rPr>
              <a:t>GMOD Schema: Chado </a:t>
            </a:r>
            <a:br>
              <a:rPr sz="4000"/>
            </a:br>
            <a:r>
              <a:rPr b="0" lang="en-GB" sz="2400" spc="-1" strike="noStrike">
                <a:solidFill>
                  <a:srgbClr val="808080"/>
                </a:solidFill>
                <a:latin typeface="Comic Sans MS"/>
              </a:rPr>
              <a:t>David Emmert (FlyBase), Chris Mungall (Berkeley)</a:t>
            </a:r>
            <a:endParaRPr b="0" lang="en-US" sz="2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Modular and ontology-driven for flexibility and extensibility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625920"/>
            <a:ext cx="5333760" cy="228600"/>
          </a:xfrm>
          <a:prstGeom prst="rightArrow">
            <a:avLst>
              <a:gd name="adj1" fmla="val 50000"/>
              <a:gd name="adj2" fmla="val 195840"/>
            </a:avLst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9840" y="37782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16550" t="13282" r="15296" b="84723"/>
          <a:stretch/>
        </p:blipFill>
        <p:spPr>
          <a:xfrm>
            <a:off x="533520" y="4495680"/>
            <a:ext cx="5518080" cy="127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2440" y="461628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R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905120" y="5213520"/>
            <a:ext cx="1752480" cy="1492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06520" y="643896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e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rcRect l="0" t="0" r="0" b="63040"/>
          <a:stretch/>
        </p:blipFill>
        <p:spPr>
          <a:xfrm>
            <a:off x="5334120" y="2774880"/>
            <a:ext cx="3352680" cy="806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895480" y="3886200"/>
            <a:ext cx="1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64160" y="400680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ran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4648320"/>
            <a:ext cx="1800" cy="571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73160" y="469260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ranslation_produ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8" idx="0"/>
            <a:endCxn id="134" idx="2"/>
          </p:cNvCxnSpPr>
          <p:nvPr/>
        </p:nvCxnSpPr>
        <p:spPr>
          <a:xfrm flipV="1">
            <a:off x="5866920" y="3580560"/>
            <a:ext cx="1143720" cy="1594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6009480" y="380988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genomic lo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entral Dogma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72520" cy="4638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7080" y="6526080"/>
            <a:ext cx="22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Comic Sans MS"/>
              </a:rPr>
              <a:t>Slide from Stan Letovsk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tt Cain</cp:lastModifiedBy>
  <dcterms:modified xsi:type="dcterms:W3CDTF">2007-07-09T13:15:33Z</dcterms:modified>
  <cp:revision>16</cp:revision>
  <dc:subject/>
  <dc:title>The GMOD Project: Creating Reusable Software Components for Genome Data</dc:title>
</cp:coreProperties>
</file>